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A1CBE-FFC2-4113-8B89-532297D81B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0991F-6FA4-4353-8834-107E681CA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9F6D8-6DF9-489A-B836-D6076B97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11F67-1214-429D-AEA4-7D82F7ACD6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0EEBC-34A7-4D65-95AE-1626BEF87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55AE8-EF94-4042-83C5-9168D0AD9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AF249-E874-45F6-9580-C3DF32636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C306F-DD8D-4285-912D-E36827537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B623C-A737-4B93-BD86-36E2D6335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3904F-B5EE-4D23-B8F3-A93C01074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C018D-9300-45F6-A3BD-71394542C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51D2B-A130-4FD4-A639-E451140D5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7EA16-8CB7-47F0-A68D-6722568FC8E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四章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重症监护病房的设置与管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重症监护病房的设置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重症监护病房护理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重症监护病房医院感染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重症监护病房基本设备要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人员要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见的耐药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呼吸机相关性肺炎、中心静脉导管相关性血流感染、导尿管相关性尿路感染、多重耐药细菌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CF0BE-642C-46F8-AB23-58DBEB7C40E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8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设置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医院感染的管理内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施预防和控制措施减少危重患者的呼吸机相关性肺炎、导管相关血流感染、导尿管相关性尿路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施多重耐药细菌感染的预防和控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AA035-811D-4788-BD24-D089351891F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5CA86-42FC-43C8-B775-1500A045081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重症监护病房的设置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1785600"/>
            <a:ext cx="85694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一、重症监护病房的设置原则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二、重症监护病房的分区环境和布局设置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三、重症监护病房基本设备要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重症监护病房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人员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理安全和质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重症监护病房医院感染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病房感染控制基本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对控感人员进行重症监护感染管理目标监测的培训，确定感染源和危险因素，及时发现感染的暴发和聚集，给予及时的控制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动态监测入住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ICU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患者呼吸道、泌尿道、血液及伤口的致病微生物及药物敏感的监测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制定护理规章和流程，培训医务人员，并且监督其正确执行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4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正确处理环境和设备，如空气净化处理，呼吸机及管路的清洗、消毒和使用，床旁血滤机器操作，纤维支气管镜的清洗、消毒和使用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合理应用抗生素，达到减少院内耐药细菌的产生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6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对职工进行保健和教育，保证医务人员的安全和健康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医院感染的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工作人员管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管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访客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物品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抗菌药物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废物与排泄物管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见的医院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机相关性肺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ventilator associated pneumoni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VAP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心血管内导管相关性血流感染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entral line associated  blood stream infection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LABSI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导尿管相关性尿路感染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theter associated urinary tract inf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UTI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多重耐药细菌感染的预防和控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hzg</cp:lastModifiedBy>
  <cp:lastPrinted>1899-12-30T00:00:00Z</cp:lastPrinted>
  <dcterms:modified xsi:type="dcterms:W3CDTF">2015-08-28T05:42:11Z</dcterms:modified>
  <cp:revision>5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